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10296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C6B-E9CA-4903-BFF3-A53A07C3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EC8-FE17-4203-9BE4-E4166133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287-CA07-4EC3-8D98-F36433FB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9B6-DE11-4377-9EB2-FDA03007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AA3-8E94-476F-882C-ECEEC19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125-B945-436A-B2E9-10B2493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008-9534-4409-B09A-A1DFC3D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59C-056F-49BE-B2D5-DC605D8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2920"/>
            <a:ext cx="16459200" cy="79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008-C1A2-40B9-AD01-B994B90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D52-F578-4CF8-8635-EE56304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23D-177E-480F-A0C5-5BFC92F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1FA-5575-4F62-A160-E82A9A0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5F7-5A1A-4EB8-8BA0-212A84765DC2}" type="datetime">
              <a:rPr b="0" lang="en-US" sz="24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9543960"/>
            <a:ext cx="579096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4D0-54E8-4443-B0C8-03FC2D7EBB7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466560"/>
            <a:ext cx="1828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template is optimized for our widescreen displ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The critical text on your ads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(names, dates, times, locations, etc.) 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should not be any smaller than this.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save your file from PowerPoi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on the File menu or Office Button (depending on version), then “Save as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me your file, then select JPEG or PNG from the “Format” or “Save as type” drop-down me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your file. Remember where you saved it so you can upload it l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lease delete this text box when you are done re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6:44Z</dcterms:created>
  <dc:creator>Joshua Velasquez</dc:creator>
  <dc:description/>
  <dc:language>en-US</dc:language>
  <cp:lastModifiedBy>Joshua Velasquez</cp:lastModifiedBy>
  <dcterms:modified xsi:type="dcterms:W3CDTF">2010-02-04T15:39:43Z</dcterms:modified>
  <cp:revision>4</cp:revision>
  <dc:subject/>
  <dc:title>Slide 1</dc:title>
</cp:coreProperties>
</file>