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0" cy="10296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D0B-CB63-4ADD-9F30-0BCC8985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D0E-4757-46ED-9FE9-1244472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2C6-9E0B-4357-AA1C-B0448030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4E2-A8FC-4D5E-93EC-BD68E525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206-50FD-450A-B3E6-7A07138A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7AE-C589-41E0-8D69-904F0CAB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57F-E7CA-4F51-917E-1697BE83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D9E-9586-413E-A8C5-DD30639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2920"/>
            <a:ext cx="16459200" cy="79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61C-A88E-48E4-9FA0-29F9554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B73-D2C2-4A5C-B0DC-DB4B40A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6F9-8AAA-4295-8323-60DC94F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01F-67CF-4390-BA77-F317C14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 fontScale="82000"/>
          </a:bodyPr>
          <a:p>
            <a:pPr marL="562320" indent="-5623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1218240" indent="-468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1874520" indent="-374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2624040" indent="-3747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A61-B359-4672-9362-B9842EE14CED}" type="datetime">
              <a:rPr b="0" lang="en-US" sz="24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9543960"/>
            <a:ext cx="579096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16D-90A1-413A-9E64-F219B0BB4EAB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466560"/>
            <a:ext cx="1828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template is optimized for our widescreen displ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The critical text on your ads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(names, dates, times, locations, etc.) 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should not be any smaller than this.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save your file from PowerPoi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on the File menu or Office Button (depending on version), then “Save as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me your file, then select JPEG or PNG from the “Format” or “Save as type” drop-down me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ve your file. Remember where you saved it so you can upload it l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lease delete this text box when you are done rea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6:44Z</dcterms:created>
  <dc:creator>Joshua Velasquez</dc:creator>
  <dc:description/>
  <dc:language>en-US</dc:language>
  <cp:lastModifiedBy>Joshua Velasquez</cp:lastModifiedBy>
  <dcterms:modified xsi:type="dcterms:W3CDTF">2010-02-04T15:39:43Z</dcterms:modified>
  <cp:revision>4</cp:revision>
  <dc:subject/>
  <dc:title>Slide 1</dc:title>
</cp:coreProperties>
</file>